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127-A626-42D7-B6FE-AFFAFD13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877-3878-43F7-9D33-E89E9AA6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7C3-3655-45A3-A1C0-F7088C4E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38A-E615-4A8E-BA0F-0D4B2AE7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D09-1833-4880-AD1C-1BA1ADE0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F072-3505-45ED-B6FA-ADB0729F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F67-12DC-45AA-99C2-E6D4FCDF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F84D-C438-4642-89F0-95FD6D9B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C211-DC4C-4B6A-8AD5-CB492B9E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09E2-6AC9-4EB4-A190-7833E31D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8661-42FE-445C-88BB-0AC4B27A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31B-1B04-48D5-B681-37183C92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B8B9-2FA1-4D8B-97DF-69F71513094F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D7BC-C49D-4C41-B6A7-9A747F5A79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Transmi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r Measur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ecial RF Signal Measurement Precau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s must be understood when testing RF signals as compared to audio frequ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ading of high-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parallel-resonant circuits by relatively low impedance instru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equency response shift caused by test lead and instrument input capacit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r Measur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asuring Transmitter Output Pow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ummy anten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istive load used in place of regular anten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s undesired transmissions that may otherwise occur and damage to output circuits that may occur under unloaded condi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SB Transmitt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lter Meth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wanted sideband suppress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itional method; widely used in analog SSB app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e Metho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discrimination may be used to cancel one sideband of DSB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e and cosine waves lend themselves to digital processing techniq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Transmitt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posed of oscillators, amplifiers, filters, and modulating stag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M Gen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of carrier oscillator directly varied by modulating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actor diode used to generate FM direct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ance modul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2200" indent="-21924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istor made to function as variable capacit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Transmitt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FM Gen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by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M systems utilizing direct generation with AF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i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rcuitry that generates modulated sig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rimin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posite of a VCO; provides a dc level output based on frequency inpu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Transmitt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irect FM Gen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m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ulation of stable crystal oscillator without cumbersome AFC circuitry; provides carrier accuracies identical to crystal accura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rectly generates FM by changing the phase of a crystal oscillator’s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Transmitt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direct FM Gene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 capable of much frequency devi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ynamic action of phase detector/VCO and feedback path is basis of a PL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tereo FM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ereo radio broadca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separate 30-Hz to 15-kHz signals used to modulate the carri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ereo transmitter has modulating sig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equency-division multiplex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601"/>
              </a:spcBef>
              <a:buClr>
                <a:srgbClr val="1191d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different signals multiplexed together by having them coexist in two different frequency rang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ereo FM more prone to noise than monophonic (monaural) broadcas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d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ulator Circu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tude modulation (AM) generated as result of mixing or combining carrier and intelligence frequencies within nonlinear device or circu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mitter mixer circuit designed to produce modulation direct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ion ty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400" indent="-21708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intelligence is injec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d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utral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cuum tubes still found in areas of electronic commun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utralizing capaci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th for return of a signal 180° out of phase with signal returned from plate to gr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f-oscillation a problem for all RF amplifi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d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gh- and Low-Level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-level modulation sche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2200" indent="-21924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lligence added at last possible point before transmitting antenn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-level mod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42200" indent="-21924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telligence injected at a point before final output st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ice of high- or low-level modulation driven by required power output and trade-off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d System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istor High-Level Modul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-C operation provides abrupt nonlinearity when device switches on and off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in contrast to gradual nonlinearities offered by transistor at high and low levels of class A bi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r Measur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pezoid Patter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oscilloscope display of transmitted AM signal will indicate any gross deficie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 is better if dual-trace scope used to allow intelligence signal to be superimposed on AM signa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pezoidal patte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rovement to this meth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r Measur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ter Measur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possible to make transmitter checks with a dc ammeter in collector of modulated s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r Measur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ectrum Analyz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tter troubleshooting in frequency domain reliant on spectrum analyzers for determining spectral characteristics of output and identifying unwanted and potentially interfering frequency compon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 Transmitter Measuremen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armonic Distortion Measur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de by applying spectrally pure signal source to device under test (DUT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of measurement dependent on harmonic distortion of signal source and spectrum analyz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rce provides signal to DUT; spectrum analyzer used to monitor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12:31Z</dcterms:modified>
  <cp:revision>6</cp:revision>
  <dc:subject/>
  <dc:title>Slide 1</dc:title>
</cp:coreProperties>
</file>